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2F24-184B-4466-9605-840DBAEF6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FB7D-4079-4F14-A06C-98F5D003D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DB0D-9732-44AD-991A-7E41359AF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57A6-C456-46C8-B8E3-50394AB9A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DAD5-AED8-40DA-A997-7658E5B96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05B9-E17B-42C5-BD0F-4663BD47C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F2D3-F7DA-4C88-B2FD-3191EED2E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741E-B450-4664-957C-F06721698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5C92-FD95-4134-BA47-2E38C1444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01FE-AC4A-4737-B2FA-9E85CFE8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3A3B-26FC-4BF7-B44C-4A5563EB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28D0-B76E-4E65-94BE-967BD361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B61C3-C5D3-49BE-8139-4E0F4D9B9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Silent Consonan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, kn, gn, and m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280" y="2666520"/>
            <a:ext cx="88394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w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g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m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4"/>
          <p:cNvSpPr/>
          <p:nvPr/>
        </p:nvSpPr>
        <p:spPr>
          <a:xfrm>
            <a:off x="152280" y="3124080"/>
            <a:ext cx="8610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5"/>
          <p:cNvSpPr/>
          <p:nvPr/>
        </p:nvSpPr>
        <p:spPr>
          <a:xfrm>
            <a:off x="1600200" y="23623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6"/>
          <p:cNvSpPr/>
          <p:nvPr/>
        </p:nvSpPr>
        <p:spPr>
          <a:xfrm>
            <a:off x="4419720" y="2362320"/>
            <a:ext cx="0" cy="2209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7"/>
          <p:cNvSpPr/>
          <p:nvPr/>
        </p:nvSpPr>
        <p:spPr>
          <a:xfrm>
            <a:off x="7010280" y="236232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18:17:40Z</dcterms:created>
  <dc:creator> </dc:creator>
  <dc:description/>
  <dc:language>en-US</dc:language>
  <cp:lastModifiedBy>teacher</cp:lastModifiedBy>
  <dcterms:modified xsi:type="dcterms:W3CDTF">2011-02-23T18:11:46Z</dcterms:modified>
  <cp:revision>3</cp:revision>
  <dc:subject/>
  <dc:title>Review Silent Consonants wr, kn, gn, and mb</dc:title>
</cp:coreProperties>
</file>